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23FC-749F-41A0-8AF7-484019B9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8F1-AECD-4B17-B293-6FFF968F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2A7C-EBEF-476F-9316-1704E805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36A-4105-4F6F-A9B6-28258AEA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C8A-A0E6-4529-93E0-7F6DBA8D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123-30C9-4DFE-A2F5-A74B7725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F73-E5C5-40A7-947E-1DFE2F5B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EE3-6B98-4776-9052-100B768B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E5CB-93BE-4240-B0C4-0301C4D2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8D5-E20B-4EA7-A723-F59A4E55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7B3-5417-4BBF-A3C0-073010DA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CA9-4D8C-4FEC-BF05-7B9F1BD5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84A3-AEEC-4B3D-A988-9DAC50684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80880" y="2482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Lucida Sans"/>
              </a:rPr>
              <a:t>Do Activity 2.2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533520" y="166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Bias VS. Variability: the bulls ey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33520" y="100476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Turn to page 89- look at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33520" y="16146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Bias-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we know this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3520" y="22240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Variability-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basically like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33520" y="152280"/>
            <a:ext cx="7924680" cy="381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33520" y="4419720"/>
            <a:ext cx="79246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33520" y="4724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To reduce bias… use random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33520" y="5486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To reduce variability… use larger sampl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33520" y="29098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We want to keep both of these l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28600" y="100476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Lucida Sans"/>
              </a:rPr>
              <a:t>Try the HW 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Lucida Sans"/>
              </a:rPr>
              <a:t>Page 90 #31, 32, 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457200" y="1600200"/>
            <a:ext cx="83818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* A number that describes a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127080"/>
            <a:ext cx="83818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Parame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A number that describes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57200" y="3124080"/>
            <a:ext cx="8381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polling agency takes a sample of 1500 American citizens and asks them if they are lactose intolerant. 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2%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say yes.  This is interesting, since it has been shown tha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5%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of the population is lactose intole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2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5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380880" y="304920"/>
            <a:ext cx="8382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random sample of 1000 people who signed a card saying they intended to quit smoking were contacted a year after they signed the card.  It turned out that 210 (21%) of the sampled individuals had not smoked over the past six month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21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opulatio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Sample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arameter of interest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80880" y="457200"/>
            <a:ext cx="8382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On Tuesday, the bottles of tomato ketchup filled in a plant were supposed to contain an average of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4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unces of ketchup.  Quality control inspectors sampled 50 bottles at random from the day’s production.  These bottles contained an average of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3.8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unces of ketchu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4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3.8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80880" y="457200"/>
            <a:ext cx="8382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On a New York-to-Denver flight,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8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the 125 passengers were selected for random security screening prior to boarding.  According to the Transportation Security Administration,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0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airline passengers are chosen for random screening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8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0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457200"/>
            <a:ext cx="8382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researcher wants to find out which of two pain relievers works better.  He takes 100 people and randomly gives half of them medicine #1 and the other half medicine #2. 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7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people taking medicine 1 report improvement in their pain and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20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people taking medicine #2 report improvement in their pai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7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20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4572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Different Symbol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80880" y="11574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Statistic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Parameter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Measures?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80880" y="1981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 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Lucida Sans"/>
              </a:rPr>
              <a:t>proportion/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80880" y="283356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         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μ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means/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9"/>
              <p:cNvSpPr txBox="1"/>
              <p:nvPr/>
            </p:nvSpPr>
            <p:spPr>
              <a:xfrm>
                <a:off x="609480" y="1981080"/>
                <a:ext cx="46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5" name="Rectangle 1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11"/>
              <p:cNvSpPr txBox="1"/>
              <p:nvPr/>
            </p:nvSpPr>
            <p:spPr>
              <a:xfrm>
                <a:off x="596880" y="289548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" name="Line 13"/>
          <p:cNvSpPr/>
          <p:nvPr/>
        </p:nvSpPr>
        <p:spPr>
          <a:xfrm>
            <a:off x="380880" y="26668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380880" y="35812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2438280" y="1219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5486400" y="1219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28600" y="166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SAMPLING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28600" y="685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Differen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samples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give us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8600" y="2209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Bigger samples are bet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28600" y="30481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If we take lots of samples of the same size, the variation from sample to sample follows a predictable pattern  =   they make a good grap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1219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Differen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size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samples give us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038480" y="4572000"/>
            <a:ext cx="3812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419720" y="480060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657600" y="480060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800600" y="5105520"/>
            <a:ext cx="3808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3276720" y="5105520"/>
            <a:ext cx="3808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181480" y="5562720"/>
            <a:ext cx="381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2895480" y="5562720"/>
            <a:ext cx="381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5562720" y="58672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514600" y="58672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V="1">
            <a:off x="41911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2819520" y="62485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209680" y="2590920"/>
            <a:ext cx="3812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590920" y="281952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828800" y="281952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971800" y="3124080"/>
            <a:ext cx="3808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447920" y="3124080"/>
            <a:ext cx="3808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3352680" y="3581280"/>
            <a:ext cx="3812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066680" y="3581280"/>
            <a:ext cx="3812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733920" y="388620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685800" y="388620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 flipV="1">
            <a:off x="2362320" y="4038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6858000" y="259092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7238880" y="3124080"/>
            <a:ext cx="38124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6477120" y="3276720"/>
            <a:ext cx="380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762012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6095880" y="3657600"/>
            <a:ext cx="3812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2"/>
          <p:cNvSpPr/>
          <p:nvPr/>
        </p:nvSpPr>
        <p:spPr>
          <a:xfrm flipV="1">
            <a:off x="7010280" y="4038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228600" y="15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Variability = spread/width of grap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304920" y="10810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Larger samples give smaller vari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304920" y="49528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228600" y="1905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Lucida Sans"/>
              </a:rPr>
              <a:t>Lots of samples of size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609480" y="43434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5257800" y="43434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5181480" y="1905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Lucida Sans"/>
              </a:rPr>
              <a:t>Lots of samples of size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4114800" y="4038480"/>
            <a:ext cx="3808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304920" y="4038480"/>
            <a:ext cx="3808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0:19:33Z</dcterms:created>
  <dc:creator>Lauren Senske</dc:creator>
  <dc:description/>
  <dc:language>en-US</dc:language>
  <cp:lastModifiedBy>Lauren Senske</cp:lastModifiedBy>
  <dcterms:modified xsi:type="dcterms:W3CDTF">2009-09-15T16:55:34Z</dcterms:modified>
  <cp:revision>20</cp:revision>
  <dc:subject/>
  <dc:title>Slide 1</dc:title>
</cp:coreProperties>
</file>